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6042-0BDA-482C-94B0-B31CADE24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14C3-D322-437B-A509-643F74E0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A428-295B-45F4-8352-8B787B95A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8028-9553-4162-9067-1CBEC66E2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B35F-0311-401F-9853-22C159AA0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E1ED-811C-48BF-A664-768CC6C7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DBDA-56A5-4927-B726-2091E785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D404-E573-4F60-B690-CEF6C694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CC63-803C-446E-A8B5-0A8F8E2B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1022-632D-4445-9D21-0F4B52D8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751D-293D-4AEF-88DD-0286DB56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0E30-F6B4-42C6-B173-3434AC4E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9E68-6A49-4BDD-A4E9-51871E5E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DFEB-7702-4B0B-839E-FC0BBF5A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B81A-B6FD-43D5-BB02-9D4EA5DC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81A2-409A-4C6B-B77E-DF456C4DB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D34C4-B04F-4D92-9222-5272CBE7A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DB81-3D4E-442E-BB3A-40EE8543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A1FC-8C3F-46A5-9182-B7A92449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88DB-C4CC-400D-8042-31EBADD5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A170-EA80-4B0A-AEDF-9FB6A272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90A3-FD1F-4299-875F-D053E3F2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6DD9-6782-4081-97B2-5BD4E011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0510-E5E3-4ED3-8974-C4E61054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C58F-66C7-40DC-ADA6-7DFDC86F3C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DC0C-527F-41AB-999D-341C7AD82D2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heage.com.au/ffximage/2006/07/19/svABORIGINES_wideweb__470x338,0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planethoustonamx.com/amxtrash/junky_amx.jpg&amp;imgrefurl=http://www.planethoustonamx.com/amxtrash/uglycars2.htm&amp;usg=__wsGxLEy6axaVkw14Sh3ZjQjpva8=&amp;h=296&amp;w=400&amp;sz=29&amp;hl=en&amp;start=2&amp;tbnid=GcmzMP58oYb0AM:&amp;tbnh=92&amp;tbnw=124&amp;prev=/images%3Fq%3Dpictures%2Bof%2Bjunky%2Bcars%26hl%3Den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graphics8.nytimes.com/images/2008/12/15/us/15blago-480.jpg&amp;imgrefurl=http://thecaucus.blogs.nytimes.com/2008/12/19/blagojevich-to-make-statement/&amp;usg=__mAXb3rrwJ6qmFiIbOiu7Y8cIngg=&amp;h=274&amp;w=480&amp;sz=25&amp;hl=en&amp;start=4&amp;tbnid=2RTacCoxjummrM:&amp;tbnh=74&amp;tbnw=129&amp;prev=/images%3Fq%3Dpictures%2Bof%2Bblagojevich%26hl%3Den%26sa%3DX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bigcornisland.com/images/beach.jpg&amp;imgrefurl=http://www.bigcornisland.com/&amp;usg=__hSdzRG6GUvE7Z3IabrB6N3GvpGg=&amp;h=480&amp;w=640&amp;sz=73&amp;hl=en&amp;start=4&amp;tbnid=DN07dXrcfgcycM:&amp;tbnh=103&amp;tbnw=137&amp;prev=/images%3Fq%3Dpictures%2Bof%2Bislands%26hl%3Den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law.justanswer.com/uploads/MrLawyer/2008-6-10_181024_515px-Scales_Of_Justice_svg.png&amp;imgrefurl=https://law.justanswer.com/child/197j6-hello-question-live-girlfriend-13&amp;usg=__r5IlE5ENtyGTxtyXkpY75Lj1_l8=&amp;h=600&amp;w=515&amp;sz=21&amp;hl=en&amp;start=3&amp;tbnid=0PanBFagWd95jM:&amp;tbnh=135&amp;tbnw=116&amp;prev=/images%3Fq%3Dpictures%2Bof%2Bthe%2Bscales%2Bof%2Bjustice%26hl%3Den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ccel.org/pix/books.jpeg&amp;imgrefurl=http://www.ccel.org/shortlist.html&amp;usg=__MxvuSnLQHVqbJc1fEPeiiaCtsuA=&amp;h=343&amp;w=535&amp;sz=47&amp;hl=en&amp;start=1&amp;tbnid=acP36Sp256ZS-M:&amp;tbnh=85&amp;tbnw=132&amp;prev=/images%3Fq%3Dpictures%2Bof%2Bbooks%26hl%3Den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delivery.superstock.com/WI/223/1487/PreviewComp/SuperStock_1487R-61254.jpg&amp;imgrefurl=http://www.superstock.com/stock-photos-images/1487R-61254&amp;h=350&amp;w=232&amp;sz=45&amp;tbnid=8T0E2krcgh08JM::&amp;tbnh=120&amp;tbnw=80&amp;prev=/images%3Fq%3Dpictures%2Bof%2Bmothers%2Bgiving%2Bbabies%2Btheir%2Bbottle&amp;hl=en&amp;usg=__oT-q5n6BD0HWerEJuIxJ-vHVlKA=&amp;sa=X&amp;oi=image_result&amp;resnum=2&amp;ct=image&amp;cd=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i-love-dogs.com/software/Cute-Dog-Screensaver.jpg&amp;imgrefurl=http://www.i-love-dogs.com/software/Cute-Dog-Screensaver.html&amp;h=353&amp;w=300&amp;sz=5&amp;tbnid=Fb1ju91uX0_1JM::&amp;tbnh=121&amp;tbnw=103&amp;prev=/images%3Fq%3Dpictures%2Bof%2Bcute%2Bdogs&amp;hl=en&amp;usg=__J-3XrkQjiH2ExGk-29g3Dx-wd7w=&amp;sa=X&amp;oi=image_result&amp;resnum=1&amp;ct=image&amp;cd=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i104.photobucket.com/albums/m167/jesszwo/Grandpas-6.jpg&amp;imgrefurl=http://studio3z.blogspot.com/2008/03/grandpa-george-turns-90-part-2.html&amp;h=497&amp;w=495&amp;sz=176&amp;tbnid=mzMq1kj1B9n_yM::&amp;tbnh=130&amp;tbnw=129&amp;prev=/images%3Fq%3Dpictures%2Bof%2Bgrandpas&amp;hl=en&amp;usg=__TCohgTluliwV0r3FxYVkCrXTFR4=&amp;sa=X&amp;oi=image_result&amp;resnum=4&amp;ct=image&amp;cd=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orldofstock.com/slides/PRO1098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searbliss.hu/pics/cover/phantoms1.jpg&amp;imgrefurl=http://www.searbliss.hu/hub/phantoms.html&amp;h=702&amp;w=702&amp;sz=117&amp;tbnid=N_eQPi5fTabFMM::&amp;tbnh=140&amp;tbnw=140&amp;prev=/images%3Fq%3Dpictures%2Bof%2Bphantoms&amp;hl=en&amp;usg=__VwdMB1XBF3OfKLpbrfn-sRGHezw=&amp;sa=X&amp;oi=image_result&amp;resnum=2&amp;ct=image&amp;cd=1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gizmodo.com.au/2007/05/07/pma-kodak-bag2.jpg&amp;imgrefurl=http://www.gizmodo.com.au/2007/05/07/&amp;h=290&amp;w=520&amp;sz=34&amp;tbnid=B1q2aP2YWmYXzM::&amp;tbnh=73&amp;tbnw=131&amp;prev=/images%3Fq%3Dpictures%2Bof%2Bold%2Bladies%2Bhitting%2Bwith%2Btheir%2Bpurses&amp;hl=en&amp;usg=__m7bbhVrF7bh8T5eBSpk_XEyvPYs=&amp;sa=X&amp;oi=image_result&amp;resnum=4&amp;ct=image&amp;cd=1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miwd.uscourts.gov/COURTROOM%2520TECH/Bell/Courtroom.jpg&amp;imgrefurl=http://countenance.wordpress.com/2006/12/08/&amp;h=300&amp;w=400&amp;sz=31&amp;tbnid=j6RZRyx0cHiL7M::&amp;tbnh=93&amp;tbnw=124&amp;prev=/images%3Fq%3Dpictures%2Bof%2Bcourtrooms&amp;hl=en&amp;usg=__EOXneW-iX-ADOVkaZcadH1iGrVY=&amp;sa=X&amp;oi=image_result&amp;resnum=3&amp;ct=image&amp;cd=1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rvforsaleguide.com/trip/kids/mean-face-ben-picture.jpg&amp;imgrefurl=http://rvforsaleguide.com/benjamin-family-vacation-pictures.htm&amp;h=494&amp;w=479&amp;sz=120&amp;tbnid=mPI7uZaMuguOzM::&amp;tbnh=130&amp;tbnw=126&amp;prev=/images%3Fq%3Dpictures%2Bof%2Bmean%2Bfaces&amp;hl=en&amp;usg=__KxfjgklqmwfNdNkIh5HsrTd75zM=&amp;sa=X&amp;oi=image_result&amp;resnum=3&amp;ct=image&amp;cd=1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eek 2 Vocabula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 come from the first four chapters of our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ndigenou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248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ting in and characteristic of a particular region or country; native (often fol. b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The aborigines are indigenous to Austral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419720"/>
            <a:ext cx="29718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-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flivver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7920" y="2514600"/>
            <a:ext cx="62485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hing of unsatisfactory quality or inferior gra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The flivver was stranded on the side of the ro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304920"/>
            <a:ext cx="304812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llicitl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permit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The Governor has been accused of illicit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3886200"/>
            <a:ext cx="441972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ranquil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 from commotion or tumu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sland was a tranquil oa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685800"/>
            <a:ext cx="320040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nequiti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equity; unfairness; favoritism or bi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The trial was filled with inequ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4419720"/>
            <a:ext cx="259092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Fractiou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ly angered or unr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The student was kicked out of the game for fractious behav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isapprobati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ppr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incipal showed disapprobation for the student’s skimpy shi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Mortificati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iliation or sh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irl experienced mortification when her friends played a mean prank on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vexation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t of annoying or irrita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behavior vexed his girl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Literat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90560" y="1371600"/>
            <a:ext cx="5562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le to read and wr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int of English class is to become literate members of socie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3809880"/>
            <a:ext cx="57150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Assuaged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acify or soo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The mother assuaged the baby with a bott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http://www.superstock.com/stock-photos-images/1487R-6125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3809880"/>
            <a:ext cx="1676520" cy="19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Auspiciou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ising success, fortun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say that Obama has an auspicious future ahead of h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191120" y="4038480"/>
            <a:ext cx="243828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Unanimou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agre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ote to impeach the president was unanim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Ritual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cribed or established rite, ceremony, proceeding, or serv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Anxiety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5791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ess or uneasiness of mind caused by fear of danger or misfortu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The man shows anxiety of losing his jo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886200" y="3962520"/>
            <a:ext cx="27432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estilen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usually fatal epidemic disease, evi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The pestilence caused many deaths and even more illnes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nquisitiv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o inquiry, research, or asking questions; eager for knowledge; intellectually curi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ild is inquisitive and always ask a million ques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Edificati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al improvement or guid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The priest offered the man edification for his bad behav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Assignmen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 War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e up with at least one sentence using 5 of the vocabulary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Assignment 2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redilecti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ndency to think favorably of something in particu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Smiley has a predilection for raw hide b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http://www.i-love-dogs.com/software/Cute-Dog-Screensaver.htm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4114800"/>
            <a:ext cx="221004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acitur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32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rn or si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My grandfather can sometimes seem taciturn, but in reality he is a great gu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http://studio3z.blogspot.com/2008/03/grandpa-george-turns-90-part-2.htm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3600" y="4572000"/>
            <a:ext cx="2362320" cy="18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Ambled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594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go at a slow, easy p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The couple ambled along talking and holding ha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9920" y="3886200"/>
            <a:ext cx="2152440" cy="158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hantom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ppearance or illusion without material sub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The woman thought she saw her dead dog running, but it was only a phant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http://www.searbliss.hu/hub/phantoms.htm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4114800"/>
            <a:ext cx="335268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ntimidati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orce someone to do something through use of f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The criminal tried to intimidate the elderly lady, but she hit him with her pu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http://www.gizmodo.com.au/2007/05/07/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53080" y="4800600"/>
            <a:ext cx="182880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ransacti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7920" y="990720"/>
            <a:ext cx="62485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ublished records of the proceedings, as papers read, addresses delivered, such as in a courtroom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The transaction showed that the man had lied in cou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http://countenance.wordpress.com/2006/12/08/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3962520"/>
            <a:ext cx="2666880" cy="259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Malevolen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096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shing evil or ha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The student was malevolent to her teac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http://rvforsaleguide.com/benjamin-family-vacation-pictures.ht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191120"/>
            <a:ext cx="2895840" cy="1771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9:06:05Z</dcterms:created>
  <dc:creator>rebecca</dc:creator>
  <dc:description/>
  <dc:language>en-US</dc:language>
  <cp:lastModifiedBy>rebecca</cp:lastModifiedBy>
  <dcterms:modified xsi:type="dcterms:W3CDTF">2009-01-06T21:49:50Z</dcterms:modified>
  <cp:revision>2</cp:revision>
  <dc:subject/>
  <dc:title>Week 2 Vocabulary</dc:title>
</cp:coreProperties>
</file>